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457-6DF6-44A2-BAE8-87131F6A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D5F-7CC9-4C5C-A8C6-FE48E7A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C92-567E-4163-AA8B-413D68F4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D5B-FB4E-40C8-A911-269FAD4B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688-594A-4CF7-A3F1-1C480C0C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C3B-961F-4202-8C49-3C356DF1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70D-A0B7-4221-978A-4690CA57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628-1F59-4D35-94EB-DB52F6BC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8A2-C9BB-4445-9661-0796715F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C69-EB41-4BDB-95ED-F976D25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BFB-16A4-4DA0-BC2F-B8C0F68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7D2-D465-4C5A-901F-8AF5E63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4691-EA6A-47EA-A2FD-55C9FEEF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 Int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Are you always out to hurt people?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I do many wonderful things for people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r &amp;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ther T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 fixing - fertilize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with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human hormones via genetic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How do doctors know which antibiotics will kill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Stain can be used because some antibiotics are effective for Gram + bacteria, whereas others are more effective against Gram -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y are you hurt by antibiotics but my cells are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n’t have a cell wall but I do - antibiotics target my cell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Discuss the 2 ways in which your diseases can harm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interfere with normal functioning of body tissue and I can release toxins that directly affect m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Malaria, African Sleeping Sickness, Amoe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e Disease, Ebola, Tet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124080" cy="2260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3124080" cy="213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267080" y="3962520"/>
            <a:ext cx="3479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Diatom, describe your potential for becoming a cancer dru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oduce substances that prevent some human cancer cells from di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Oomycota, explain your role in the mass immigration of Irish people to Ameri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tophtora infest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destroyed the potato crop which led to the Irish Potato Famine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Plasmodium, what disease do you cause &amp; how do you affect human red blood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use malaria - I multiply inside of red blood cells and then split them open to release toxins and my newly produced sp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Sporozoans, what do you have in common with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parasitic - require a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Rabies, polio, cold, influenza, herpes, hepatitis, chicken p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Hookworm, amoebas, E. 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c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Hookworm, Tapeworm, Flu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Ringworm, Yellow Fever, Pneu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c Worm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941640"/>
            <a:ext cx="2971800" cy="253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2895840" cy="243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281952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248520" y="396252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Ascaris, explain how you pass from one person to an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eggs are swallowed &amp; hatch in the intestines - depending on my species, I mature in different areas of the body - my newly produced eggs may be released in feces or coughed out and are then swallowed by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Hookworm, why do you make me feel so weak &amp; t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use blood loss which is known as anemia = tired, wea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Tapeworm, describe your adaptations for stealing my nutri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colex (head) has hooks &amp; suckers on it which are designed to attach to your intestines &amp; absorb your digested nutr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Blood fluke, in order to infect me, you need another organism - can you tell me abou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arvae develop &amp; asexually reproduce inside a secondary host, such as a snail - then they exit into the water &amp; bore through the skin of a human, enter the blood stream, and move into the intestine to mature into adult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Trichinella, how can meat inspectors detect your pres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ors must take a meat sample &amp; look for me under a micro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762800" cy="502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How do you cause illness in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disrupt normal growth and division of host cells =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infect host cells, cause them to make many copies of me, &amp; then kill the host cell by breaking it open to release my newly formed vir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How can I protect myself from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oduce interferon, which slows down my repl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lease antibodies to destroy me (if you already have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ave special white blood cells phagocytize (eat)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oduce a fever, which slows down my replicat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y aren’t you a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arasitic, I can’t survive on my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metabolize food, grow, or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Explain why I might not know that you infected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ysogenic cycle is sneaky - I produce a provirus which can remain inactive for many years, it is quietly copied every time your host cells divide - eventually I am activated &amp; produce disease symptoms but until then, you won’t know I’m there (unless you have had blood tests to detect my pres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Typhoid, Tetanus, TB, Salmonella, Strep throat, E. coli, Lyme disea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Cold, flu, heartworm, athlete’s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26:57Z</dcterms:created>
  <dc:creator>Clayton Johns</dc:creator>
  <dc:description/>
  <dc:language>en-US</dc:language>
  <cp:lastModifiedBy>Clayton Johns</cp:lastModifiedBy>
  <dcterms:modified xsi:type="dcterms:W3CDTF">2010-04-21T15:37:35Z</dcterms:modified>
  <cp:revision>7</cp:revision>
  <dc:subject/>
  <dc:title>Pathogen Interview</dc:title>
</cp:coreProperties>
</file>